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A6F0-1AE0-426C-9646-91BCDD8B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2C6-9643-424C-B05E-7526EFFF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9ACA-8B32-4FF1-A7A7-4E806EC8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FCE8-B114-43BB-9FA0-A579C4A8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7AFB-00A0-42EB-B1FB-EF53CB08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DFDE-A12D-4CDF-9AD2-87AD3B89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BA17-625D-482E-A53A-B089DC83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1F35-F5DB-42C8-92E4-00E65C68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4F5D-68B0-4291-B34E-A3208A55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41DA-7AC3-4D22-98AD-0301F5A0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AAD5-CAD6-4EDC-8746-2757EE42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54A5-7D1E-41A5-802C-4AF466EC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2B93E-9880-4AC8-B32F-49A6017248C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31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муниципального образования </a:t>
            </a:r>
            <a:r>
              <a:rPr b="1" i="1" lang="ru-RU" sz="4200" spc="-1" strike="noStrike">
                <a:solidFill>
                  <a:srgbClr val="ff0000"/>
                </a:solidFill>
                <a:latin typeface="Georgia"/>
              </a:rPr>
              <a:t>«Уланковский сельсовет»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Суджанского района Курской области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а 2022 год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</a:t>
            </a:r>
            <a:br>
              <a:rPr sz="3600"/>
            </a:b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1" i="1" lang="en-US" sz="2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6200000">
            <a:off x="1004040" y="872280"/>
            <a:ext cx="2736720" cy="439272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Microsoft YaHei"/>
              </a:rPr>
              <a:t>До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– поступ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в бюджет денеж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средства в ви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налоговых , неналоговых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безвозмездных поступл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 rot="16200000">
            <a:off x="5432400" y="907920"/>
            <a:ext cx="2736720" cy="432108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Microsoft YaHei"/>
              </a:rPr>
              <a:t>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– денеж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средства, направляе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на финансовое обесп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задач и функций орг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местного самоупр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Microsoft YaHei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Microsoft YaHei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-566640"/>
            <a:ext cx="9901080" cy="7424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Georgia"/>
              </a:rPr>
              <a:t>Составление бюджета основывается на:</a:t>
            </a: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4438800" y="4437000"/>
            <a:ext cx="4714560" cy="2160720"/>
          </a:xfrm>
          <a:custGeom>
            <a:avLst/>
            <a:gdLst>
              <a:gd name="textAreaLeft" fmla="*/ 589320 w 4714560"/>
              <a:gd name="textAreaRight" fmla="*/ 4125240 w 47145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Администрации Уланковского 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«Уланковский 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«Уланковский сельсовет» 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Суджанского района 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Курской области 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за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 2022 год 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2205000"/>
          <a:ext cx="8353440" cy="4253040"/>
        </p:xfrm>
        <a:graphic>
          <a:graphicData uri="http://schemas.openxmlformats.org/drawingml/2006/table">
            <a:tbl>
              <a:tblPr/>
              <a:tblGrid>
                <a:gridCol w="2670120"/>
                <a:gridCol w="1566720"/>
                <a:gridCol w="1560600"/>
                <a:gridCol w="2556000"/>
              </a:tblGrid>
              <a:tr h="700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17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48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09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484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418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Дефицит местного бюджет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-3246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Microsoft YaHei"/>
              </a:rPr>
              <a:t>Доходы бюджета муниципального образования «Уланковский сельсовет» 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Microsoft YaHei"/>
              </a:rPr>
              <a:t>з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Microsoft YaHei"/>
              </a:rPr>
              <a:t>а 2022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99" name="AutoShape 4"/>
            <p:cNvCxnSpPr>
              <a:stCxn id="100" idx="0"/>
            </p:cNvCxnSpPr>
            <p:nvPr/>
          </p:nvCxnSpPr>
          <p:spPr>
            <a:xfrm flipV="1" rot="16200000">
              <a:off x="5442120" y="2602800"/>
              <a:ext cx="892800" cy="296460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1" name="AutoShape 5"/>
            <p:cNvCxnSpPr>
              <a:stCxn id="102" idx="0"/>
            </p:cNvCxnSpPr>
            <p:nvPr/>
          </p:nvCxnSpPr>
          <p:spPr>
            <a:xfrm flipV="1" rot="16200000">
              <a:off x="3962160" y="4084560"/>
              <a:ext cx="89280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3" name="AutoShape 6"/>
            <p:cNvCxnSpPr>
              <a:stCxn id="104" idx="0"/>
            </p:cNvCxnSpPr>
            <p:nvPr/>
          </p:nvCxnSpPr>
          <p:spPr>
            <a:xfrm flipH="1" flipV="1" rot="5400000">
              <a:off x="2480760" y="2605320"/>
              <a:ext cx="892800" cy="295956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05" name="AutoShape 7"/>
            <p:cNvGrpSpPr/>
            <p:nvPr/>
          </p:nvGrpSpPr>
          <p:grpSpPr>
            <a:xfrm>
              <a:off x="3114720" y="1844640"/>
              <a:ext cx="2584440" cy="1819440"/>
              <a:chOff x="3114720" y="1844640"/>
              <a:chExt cx="2584440" cy="1819440"/>
            </a:xfrm>
          </p:grpSpPr>
          <p:pic>
            <p:nvPicPr>
              <p:cNvPr id="106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14720" y="1844640"/>
                <a:ext cx="2584440" cy="181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3226680" y="1953000"/>
                <a:ext cx="2361240" cy="15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  <a:ea typeface="Lucida Sans Unicode"/>
                  </a:rPr>
                  <a:t>2172,0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AutoShape 8"/>
            <p:cNvSpPr/>
            <p:nvPr/>
          </p:nvSpPr>
          <p:spPr>
            <a:xfrm>
              <a:off x="17928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Microsoft YaHei"/>
                </a:rPr>
                <a:t>-1731,1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313992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Microsoft YaHei"/>
                </a:rPr>
                <a:t>3140,3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AutoShape 10"/>
            <p:cNvSpPr/>
            <p:nvPr/>
          </p:nvSpPr>
          <p:spPr>
            <a:xfrm>
              <a:off x="6102360" y="4531320"/>
              <a:ext cx="253512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Microsoft YaHei"/>
                </a:rPr>
                <a:t>762,8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-684360" y="-17136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Уланковский сельсовет»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за 2022год</a:t>
            </a:r>
            <a:br>
              <a:rPr sz="2800"/>
            </a:b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272880" y="2730600"/>
          <a:ext cx="8331480" cy="4852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880" y="2730600"/>
                    <a:ext cx="8331480" cy="48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Уланковский сельсовет»Суджанского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 района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з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а 2022 год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.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125360"/>
          <a:ext cx="7416720" cy="4907160"/>
        </p:xfrm>
        <a:graphic>
          <a:graphicData uri="http://schemas.openxmlformats.org/drawingml/2006/table">
            <a:tbl>
              <a:tblPr/>
              <a:tblGrid>
                <a:gridCol w="3024000"/>
                <a:gridCol w="4392720"/>
              </a:tblGrid>
              <a:tr h="3938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22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41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нальная 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оборона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9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7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0,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buClr>
                          <a:srgbClr val="3333cc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773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772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Социальна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35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5418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-181080" y="773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муниципального образования «Уланковского сельсовета» Суджанского района Курской области в 2022 год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у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 (тыс.руб.)</a:t>
            </a:r>
            <a:endParaRPr b="1" i="1" lang="en-US" sz="16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-36360" y="836640"/>
          <a:ext cx="8569080" cy="4660920"/>
        </p:xfrm>
        <a:graphic>
          <a:graphicData uri="http://schemas.openxmlformats.org/drawingml/2006/table">
            <a:tbl>
              <a:tblPr/>
              <a:tblGrid>
                <a:gridCol w="6584760"/>
                <a:gridCol w="1984320"/>
              </a:tblGrid>
              <a:tr h="31284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Расходы на реализацию муниципальных программ, 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904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Microsoft JhengHei"/>
                          <a:ea typeface="Lucida Sans Unicode"/>
                        </a:rPr>
                        <a:t>1 . Муниципальная программа «Развитие культур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772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2. Муниципальная программа «Обеспечение доступным и комфортным жильем и коммунальными услугами граждан» М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717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5 Муниципальная программа «. Социальная поддержка гражд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51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6.</a:t>
                      </a:r>
                      <a:r>
                        <a:rPr b="1" i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Муниципальная  программа «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8. Муниципальная программа «Организация ритуальных услуг на территории муниципального образования «Уланковский сельсовет»Суджанского района Курской обла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7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5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муниципального образования «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Уланковский сельсовет» Суджанского  района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600200"/>
          <a:ext cx="6132600" cy="434808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</a:tblGrid>
              <a:tr h="7491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щегосударственные вопросы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416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422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0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808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Другие общегосударственные вопр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84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Sudja Sudjanskiyrn</cp:lastModifiedBy>
  <dcterms:modified xsi:type="dcterms:W3CDTF">2023-03-10T06:42:18Z</dcterms:modified>
  <cp:revision>79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