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F1E-9AAE-4D80-AF38-5396C911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198-6007-4CAD-A10E-B19FED5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B8F-61A5-466F-8A21-8DDCB4E9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264-82B1-412D-B984-39931674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94-A2B3-40D6-A51B-802521A3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635-FDF1-4431-838F-BE313FD0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D87-AE8A-4979-ADEF-E0DC479B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F6F-2FDE-4CFE-8A32-B234B851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5B7-C4A5-4F8A-BDB9-0D110EE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B82-0A92-4531-97A5-AAB5AF1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3D1-7244-4F85-A45D-26FE86F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F6E-F388-40C5-8013-736B7FB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5C7FC-C893-46B0-9AFD-542DEA03181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Уланков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уджанского района Курской област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 2022 год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-566640"/>
            <a:ext cx="9901080" cy="7424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438800" y="4437000"/>
            <a:ext cx="4714560" cy="2160720"/>
          </a:xfrm>
          <a:custGeom>
            <a:avLst/>
            <a:gdLst>
              <a:gd name="textAreaLeft" fmla="*/ 589320 w 4714560"/>
              <a:gd name="textAreaRight" fmla="*/ 4125240 w 47145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Администрации Уланков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«Уланков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Уланковский сельсовет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Суджа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за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2022 год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7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0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1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324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муниципального образования «Уланковский сельсовет»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а 2022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2172,0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-1731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3140,3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762,8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684360" y="-17136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Уланковский сельсовет»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 2022год</a:t>
            </a:r>
            <a:br>
              <a:rPr sz="2800"/>
            </a:b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72880" y="2730600"/>
          <a:ext cx="833148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2730600"/>
                    <a:ext cx="833148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Уланковский сельсовет»Суджанского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а 2022 год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7416720" cy="4907160"/>
        </p:xfrm>
        <a:graphic>
          <a:graphicData uri="http://schemas.openxmlformats.org/drawingml/2006/table">
            <a:tbl>
              <a:tblPr/>
              <a:tblGrid>
                <a:gridCol w="3024000"/>
                <a:gridCol w="439272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41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7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7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5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41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-181080" y="773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Уланковского сельсовета» Суджанского района Курской области в 2022 год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у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6360" y="836640"/>
          <a:ext cx="8569080" cy="4660920"/>
        </p:xfrm>
        <a:graphic>
          <a:graphicData uri="http://schemas.openxmlformats.org/drawingml/2006/table">
            <a:tbl>
              <a:tblPr/>
              <a:tblGrid>
                <a:gridCol w="6584760"/>
                <a:gridCol w="1984320"/>
              </a:tblGrid>
              <a:tr h="3128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90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7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2. Муниципальная программа «Обеспечение доступным и комфортным жильем и коммунальными услугами граждан» М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1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5 Муниципальная программа «. Социальная поддержка граж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5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6.</a:t>
                      </a: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8. Муниципальная программа «Организация ритуальных услуг на территории муниципального образования «Уланковский сельсовет»Суджанского района Курской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5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Уланковский сельсовет» Суджанского 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6132600" cy="434808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2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80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8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Sudja Sudjanskiyrn</cp:lastModifiedBy>
  <dcterms:modified xsi:type="dcterms:W3CDTF">2023-03-10T06:42:18Z</dcterms:modified>
  <cp:revision>79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